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gif" ContentType="image/gi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ABE9-5E39-4305-8EDE-77DD2934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56CF-D578-497E-8580-E0FA08C4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2B97-D161-4898-8B9E-80A68972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6ED5-FE43-417A-B0BA-A6674392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62BA-D5A2-4135-A1A1-92898F24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9BA8-0E84-4628-B7D8-899A9178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4FCB-59C2-4957-BFF7-984FF14F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1AE-63B9-42E8-94CC-B62ED30F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F2CC-FFA5-4D1A-8511-D92F3093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75B1-CAA1-4F1A-9F2F-81F259D4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5801-493F-44CB-9AEE-3A140240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D72F-5555-486D-BAC2-52953297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26EE-C367-4993-89A4-76F44F2B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1C65-2AA1-47D4-AD23-F411EE96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325F-A69B-469B-A684-9BF7C994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10A3-31C2-4F16-96E0-E1F696C9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8809-47E2-4EE0-AE74-4F406CCD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6071-E227-4234-AF92-F243BCF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D6A8-6D79-4E2E-8B5F-B3DD0E64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E4CC-23C8-456A-9572-5F201327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B705-B10D-40B1-AD00-B2FD7FBE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9B66-CAD2-41BF-A696-CD4CBAB3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B0E0-13DD-4D6E-BB6F-1CCDD780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DF5B-B5C7-4E75-81A5-732657B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3B48-6EB8-4D2D-A4CC-A37D5A1D522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BFE2-3A89-4C45-9483-42AFF4236AF2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dfdef6"/>
                </a:solidFill>
                <a:latin typeface="Arial"/>
              </a:rPr>
              <a:t>Trauma kod že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f dr A.Živan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K KC Kragujev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rčana frekvenca se povećava tokom trudnoće i dostiže tokom trećeg trimenstra povećanje od 10 do 15 otkucaja u min u odnosu na bazalnu linij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rterijski krvni pritisak se smanjuje za 5 do 15 mmHg tokom drugog trimestra sa povratkom na normanlne vrednosti u terminu porođa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irkulatorni volumen se povećava za 40 do 50%, uglavnom povećanjem volumena plazme što dovodi do hemodilucije i „fiziološke anemije“ u trudnoći. Hematokrit u trećem trimestru je normalno 0,30 do 0,3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ve promene su bitne kako bi se smanjio ukupan gubitak eritrocita tokom krvarenja u porođaj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rčani izlazni volumen krvi se povećava tokom trudnoće, tako da dostiže 20 do 30% veće vrednosti a krajem trećeg trimestra čak 40% veće vrednosti u odosu na stanje pre trudnoć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ko 25% cirkulatornog volumena odlazi za potrebe mater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 trećem trimestru materica mehanički, može pritiskom na venu kavu da redukuje venski input u srce ukoliko se trudnica leži na leđima - sindrom vene c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457200" y="2306520"/>
            <a:ext cx="40384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irkulatorne promene u trudnoći, omogućavaju ženi da se lako adaptira na gubitak krvi od 1000 do 1500ml uz minimalne kliničke znake, dok s druge strane fetus pokazuje jasne znake patn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iziološki vaskularni sistem posteljice je maksimalno dilatiran i ne poseduje značajnu autoregulatornu rezervu. To znači da pad arterijskog krvnog pritiska kod trudnice dovodi do placentalne vazokonstrikcije i smanjenja uteroplacentarnog protoka što ima za posledicu dramatičan pad parcijalnog pritiska kiseonika u fetalnoj cirkulac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mpenzacije hipovolemije kod majke drastično utiče na fetalni dist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ormalni fetalni parametri ukazuju na manji gubitak krvi i na adekvatnu resuscitaciju. S druge strane, hipotenzija trudnice koja nije posledica aortokavalne kompresije, dovodi  u 80% slučajeva do intrauterusne smrti plo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gresivna resuscitacija volumena mora se uspostaviti rano u ovakvim slučajev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erapijska nadoknada cirkulatornog volumena počinje brzom infuzijom kristalnih rastvora i transfuzijom eritrocita. Ovi postupci predstavljaju osnovu u terapiji hemoragijskog šo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trošna koagulopatija može da izazove sekundarni šok i oštećenje tki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ivo fibrinogena ispod 100 mg na decilitar ili produženo protrombinsko vreme i APTT je indikacija kod pacijentkinja koje krvare za upotrebu krioprecipitata plaz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rdiniranje opranih trombocita zavisi od koncentracije trombocita. Jedna jedinica transfuzije trombocita podiže broj trombocita od 8.000 do 10.000 na milimetar kubni i treba je uvek primeniti kada je broj trombocita manji od 30.000 na milimetar kub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457200" y="2484360"/>
            <a:ext cx="403848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bzirom da se traumatizovani pacijenti obično transportuju u supinoj poziciji postoji kod trudnica rizik za pojavu sindroma vene cave, posebno u trećem trimest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Zbog toga se mora obezbediti lako pomeranje materice u stranu, obično na lev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57200" y="23511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Promene na C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rauma kod trudnice može nastati kao posledica eklamptičnog napada a redukovani stepen svesnosti pacijentkinje ne nastaje samo od povrede glave, nego se može javiti i kao deo kliničke slike eklampsi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ophodno što pre uraditi analizu urina na proteine. Konkomitantno prisustvo proteinurije, hipertenzije i perifernog edema olakšava postavljanje dijagno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 postoji specifičan test za dijagnozu eklampsije. Dijagoza se postavlja na osnovu kliničkih znakova i simpto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ophodno je pažljivo ispitivanje abdome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naci peritonealne iritacije mogu biti otežani kod trudnica, zbog istezanja prednjeg trbušnog zida od strane uvećane materice. Određivanje zone bolova i širenja bola u predelu abdomena je od izuzetnog značaja. Pokreti ploda mogu se palpirati kao i prisustvo ili odsustvo materičnih kontrakci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onsultacija akušera je neophodna u ovoj fazi obrade pacijentkinje kako bi se dijagnostikovalo stanje fetusa i eventualne intravaginalne povre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Vaginalno krvarenje se javlja u 70% slučajeva abrupcije placente. Izuzetak su retroplacentarni hematomi. U takvim slučajevima bitno je prepoznati pojačan tonus materice, bol i fetalni dist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brupcija posteljice dešava se kod 2 do 4% slučajeva trauma manjeg intenziteta dok se kod abdominalnih trauma taj broj penje i na 50%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eophodna je auskultacija srčanih tonova ploda što p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 maloj trudnoći koristi se ultrazvučna dijagnostika a kod većih trudnoća, posebno u trećem trimestru metoda izbora je kontinuirana kardiotokografija (CTG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84360" y="1267920"/>
            <a:ext cx="43974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ve trudnice, žrtve traume, kod kojih je dijagnostikovana vitalna trudnoća veća od 24 gestacione nedelje treba podvrgnuti kontinuiranom CTG monitoringu, čak iako nema evidentne povrede abdom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va vrsta ispitivanja ima visoku senzitivnost i specifičnost u otkrivanju početka prevremnog porođaja, abrupcije posteljice i fetalne asfiks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3313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udnoća menja funkcije skoro svih sistema u organizmu že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zmenjene su osnovne fiziološke funkcije i postoji razlika u odgovoru na patološke nokse u odnosu na stanje van trudnoć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sebno je i briga o stanju fetusa važna u strategiji dijagnostičkih i terapijksih proced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nogi principi koji se primenjuju kod kritičnih pacijenata, primenjuju se i kod trud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auma kod žena u trudnoći je veoma česta (6 do 8%) i najčešći je ne-akušerski uzrok smrti u ovoj grupi pacijen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Feto maternalna hemoragi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etomaternalna hemoragija je pojam koji opisuje gubitak krvi preko uteroplacentarne jedin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d 8 do 30% slučajeva traume trudnica, dolazi do prodora fetalnih eritrocita u krvotok majke. To dovodi do povećanog rizika da se kod Rh negativnih trudnica razvije senzibilizacija na Rh pozitivan fet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e postoji korelacija između težine traume, gestacione starosti trudnoće i veličine fetomaternalne hemoragije u odnosu na stepen senzibilizacije. Čak i mala količina fetalne krvi kao što je 0,1 ml može da dovede senzibilizacije u 70% slučaje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bavezna profilaktička doza anti-D imunoglobulina (Rhogam) u dozi od 300 mikrograma, svim traumatizovanim Rh negativnim trudnica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filaksa se sprovodi unutar 72 sata od momenta nastupanja traume. Jedna doza je dovoljna da neutrališe 30ml fetalne krv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prvih dvanaest nedelja trudnoće materica se nalazi unutar koštanog dela male karlice i relativno je zaštićena od mehaničkih povred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drugog trimestra materica raste i izlazi iz anatomskog prostora male karlice. Debljina materičnog zida, amnionska tečnost i relativno mala veličina fetusa pomažu da se umanje konsekvence direktne trau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trećeg trimestra zid materice se istanjuje  tako da je tada manja zaštita od mehaničkih povreda fetu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57200" y="2214720"/>
            <a:ext cx="40384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aterica kao mišićno vezivni organ u trećem trimenstru ima elasticitet koji se razlikuje od posteljice. To objašnjava veću učestalost abrupcije placente i kod manjih trauma prednjeg trbušnog zida, tako da prilikom mehaničke povrede najčešće dolazi do odlubljivanja placente i posledičnog fetalnog distres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57200" y="225108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bojne povrede u drugom i trećem trimestru mogu izazvati kompleksnu kombinaciju oštećenja organa gastrointenstinalnog trakta koji je tokom trudnoće disloci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 druge strane materica je krajnje efektivna u zaštiti majke, u smislu veličine zaštitne površine koja se nalazi ispred vitalnih organa kao i zbog povećanog kapaciteta absorpcije energ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ncidenca smrti trudnica je manja. Međutim fetus kod probojnih povreda nije zaštićen. Kod povreda nastalih vatrenim oružjem koje zahvataju matericu maternalni mortalitet je od 7 do 10% a fetalni raste i do 7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Pre hospitalno zbrinjavanje</a:t>
            </a: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Idelano bi primena lokalnog protokola trijaže podrazumevala da se trudnice kao žrtve traume transportuju u ustanovu koja ima sve uslove za zbrinjavanje i trudnice i fetu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ogućnost adekvatnog monitoringa fetusa je krucijalni faktor u odlučivanju tokom kliničkih postupaka. Takođe je važno da prehospitalni tim upozori na vreme centar ili bolnicu da tim ginekologa-akušera bude spreman i dostupan pri prijemu povređene trudn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1047600" y="2700360"/>
            <a:ext cx="28576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fdef6"/>
                </a:solidFill>
                <a:latin typeface="Arial"/>
              </a:rPr>
              <a:t>Kontrola disajnih puteva i vratnog dela kičmenog stuba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dem gornjih disajnih puteva trudnica nastaje kao posledica pojačane kapilarne propustljivosti u kasnijim fazama trudnoće kao i zbog povećanja masnog tkiva na licu i povećanja volumena dojk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mpromitovanje gornjih disajnih puteva zbog inhalacije želudačnog sadržaja je konstatna pretnja, posedno tokom trećeg trimestra kada dolazi do podizanja želuca sa promenom gastroezofagelanog ugla koja dovodi do slabljenja sfinkt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većavan rizik od regurgitacije i aspiracije želudačne kiseline tako da je veoma važno obezbediti prolaznost disajnih puteva primenom fiksirajućeg endotrahealnog tubu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Disanje i ventilaci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isustvo gravidne materice, u odmakloj trudnoći, dovodi do promena kao što je smanjenje funkcionalnog rezidualnog kapaciteta (FRC) za 20%, respiratorni pokreti mogu biti smanjeni i za 50% u supinoj poziciji trudnice što može da dovede do smanjenja plućne komplijan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ao rezultat ovih promena trudnice su u većem riziku za smanjenu saturaciju i hipoksiju u odnosu na negravidne žene. Zbog toga je neohodna nadoknada kiseonika kod svih traumatizovanih trudn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37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Disanje i ventilaci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bog redukcije funkcionalnog rezidualnog kapaciteta (FRC) koji je bitan kao rezerva kiseonika tokom apneje kao i zbog povećane potrošnje kiseonika kod trudnica, mora se pažljivo osigurati oksigenacija pre primene hipnotika i neuromuskularnih blokatora tokom endotrahealne intubacij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 se postiže tokom 3 do 6 minutne respiracije 100% koncentracije kiseonika preko maske za disan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457200" y="2324160"/>
            <a:ext cx="40384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8:32:53Z</dcterms:created>
  <dc:creator>Zivanovic</dc:creator>
  <dc:description/>
  <dc:language>en-US</dc:language>
  <cp:lastModifiedBy>Zivanovic</cp:lastModifiedBy>
  <dcterms:modified xsi:type="dcterms:W3CDTF">2011-12-17T22:36:27Z</dcterms:modified>
  <cp:revision>6</cp:revision>
  <dc:subject/>
  <dc:title>Trauma kod žena</dc:title>
</cp:coreProperties>
</file>